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2D9-E343-4D31-A177-715F9C05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7B0-33C4-4C7D-A8D7-54D68622B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200-2B40-4F38-A1D9-9E78D687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BBFF-6902-4E51-9386-71E00E41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39B-5660-43E5-A378-8F21C99F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49B-B690-478C-A3D6-5ECAE117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119-536D-428E-A9D1-3A24A133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7CB-EB6F-4814-8240-C359DBA0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6C5-1562-4B06-9F10-A5022671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A7F-1D11-4F4D-9D38-41BBA513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159-9880-403F-813D-72FBD7BB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F35-C69C-4E9B-A54E-02B32BA6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53B-DA3F-473C-AB2B-42EBE9D4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353-FEE4-4E59-8BA5-309BE8F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C85-39DB-415E-931E-898DF62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E04-546F-4946-821B-7B38426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D225-D747-458D-9B98-FDF41500C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bielecki</cp:lastModifiedBy>
  <dcterms:modified xsi:type="dcterms:W3CDTF">2013-06-04T14:07:51Z</dcterms:modified>
  <cp:revision>17</cp:revision>
  <dc:subject/>
  <dc:title>Profile</dc:title>
</cp:coreProperties>
</file>